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10F-E28E-4F69-A6B1-AE0D8321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1AB-914F-4830-999C-E3E3B95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299-4101-4302-B532-AA1F70C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AF3-AFE2-463A-BDCF-E985074C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589-A958-486F-86D0-3C7F18D4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CAFD-0B9A-4275-BE8A-CE4988B2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8A5E-DCA9-4B2B-B7D2-FA460345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206C-6C7D-4051-AD91-E07378F5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AAE5-9CE6-4644-9D37-E42A339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4EC-13C1-4E50-B99B-255C788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9DB-188A-4C4D-A25A-837D744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B58-9A33-4317-9FE1-96057769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2159-8671-4AA8-9EA1-65B59B5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E366-F325-4B47-9B66-F9E20B2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98F-C013-4D90-AF86-EB32531A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B068-82D6-40B6-A5ED-2907F311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998-8BA8-40FF-ABB2-352A6227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321-F47E-4CCD-9870-20E5D65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240-DB59-44DF-BEB0-24B40687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CF7-9180-4C63-B38C-A65C58B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CE6-013B-45A1-8690-10D2A354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C89-93A9-40DA-836A-321B6AF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AF0-79C4-41FD-945B-25A6BC5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E68-A47A-4B79-B91C-D9F9224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4E4-AD9B-45AD-AC9B-FB68E9236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C552-558B-43AC-9844-E5F4087D3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PIS PROSTOPADŁOŚCIANU: ŚCIANY, KRAWĘDZIE, WIERZCHOŁ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7316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392800" y="171936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5421240" y="1748160"/>
            <a:ext cx="3127320" cy="3573360"/>
            <a:chOff x="5421240" y="1748160"/>
            <a:chExt cx="3127320" cy="3573360"/>
          </a:xfrm>
        </p:grpSpPr>
        <p:sp>
          <p:nvSpPr>
            <p:cNvPr id="300" name=""/>
            <p:cNvSpPr/>
            <p:nvPr/>
          </p:nvSpPr>
          <p:spPr>
            <a:xfrm>
              <a:off x="542124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48560" y="1748160"/>
              <a:ext cx="0" cy="26794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572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0408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2124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2124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80408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0408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572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65720" y="17481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124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124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5720" y="1748160"/>
              <a:ext cx="0" cy="8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408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0408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0080" y="1747080"/>
            <a:ext cx="3152880" cy="3595680"/>
            <a:chOff x="5410080" y="1747080"/>
            <a:chExt cx="3152880" cy="3595680"/>
          </a:xfrm>
        </p:grpSpPr>
        <p:sp>
          <p:nvSpPr>
            <p:cNvPr id="323" name=""/>
            <p:cNvSpPr/>
            <p:nvPr/>
          </p:nvSpPr>
          <p:spPr>
            <a:xfrm>
              <a:off x="8562960" y="1747440"/>
              <a:ext cx="0" cy="26906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6680" y="4438440"/>
              <a:ext cx="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24480" y="1747080"/>
              <a:ext cx="74772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816680" y="4438440"/>
              <a:ext cx="74628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816680" y="1747080"/>
              <a:ext cx="74628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1747440"/>
              <a:ext cx="2390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4480" y="5335200"/>
              <a:ext cx="23922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9600" y="1755360"/>
              <a:ext cx="0" cy="8967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02640" y="4446360"/>
              <a:ext cx="7477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2644560"/>
              <a:ext cx="0" cy="26902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78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10080" y="443844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2644560"/>
              <a:ext cx="747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2644560"/>
              <a:ext cx="16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2200" y="4438440"/>
              <a:ext cx="16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6680" y="2644560"/>
              <a:ext cx="0" cy="17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1880" y="444636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59600" y="4446360"/>
              <a:ext cx="16430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90440" y="1717200"/>
            <a:ext cx="3127680" cy="3574080"/>
            <a:chOff x="1090440" y="1717200"/>
            <a:chExt cx="3127680" cy="3574080"/>
          </a:xfrm>
        </p:grpSpPr>
        <p:sp>
          <p:nvSpPr>
            <p:cNvPr id="349" name=""/>
            <p:cNvSpPr/>
            <p:nvPr/>
          </p:nvSpPr>
          <p:spPr>
            <a:xfrm>
              <a:off x="1090440" y="261144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120" y="171756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261144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3280" y="439740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09044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90440" y="4397040"/>
              <a:ext cx="74484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73280" y="439704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7328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11440"/>
              <a:ext cx="16380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17175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0440" y="529128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4397400"/>
              <a:ext cx="16380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0440" y="2611440"/>
              <a:ext cx="744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5280" y="171756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73280" y="4397400"/>
              <a:ext cx="7448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3280" y="261144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090440" y="1748160"/>
            <a:ext cx="3102120" cy="3543120"/>
            <a:chOff x="1090440" y="1748160"/>
            <a:chExt cx="3102120" cy="3543120"/>
          </a:xfrm>
        </p:grpSpPr>
        <p:sp>
          <p:nvSpPr>
            <p:cNvPr id="370" name=""/>
            <p:cNvSpPr/>
            <p:nvPr/>
          </p:nvSpPr>
          <p:spPr>
            <a:xfrm>
              <a:off x="1090440" y="2633760"/>
              <a:ext cx="0" cy="2657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2560" y="1748160"/>
              <a:ext cx="0" cy="26571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2633760"/>
              <a:ext cx="0" cy="17715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4200" y="4405320"/>
              <a:ext cx="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09044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090440" y="4404960"/>
              <a:ext cx="738360" cy="8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454200" y="4404960"/>
              <a:ext cx="73836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45420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8800" y="2633760"/>
              <a:ext cx="16254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174816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0440" y="529128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8800" y="4405320"/>
              <a:ext cx="16254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2633760"/>
              <a:ext cx="7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748160"/>
              <a:ext cx="0" cy="8856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54200" y="4405320"/>
              <a:ext cx="7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4200" y="2633760"/>
              <a:ext cx="0" cy="17715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74200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4200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357720" y="4397400"/>
          <a:ext cx="7794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9740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367080" y="1673280"/>
          <a:ext cx="80028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67080" y="1673280"/>
                    <a:ext cx="800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ZEŚ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62000" y="5454720"/>
            <a:ext cx="59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ze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prostopadłościanem, którego wszystkie ściany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wadra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303720" y="1603440"/>
          <a:ext cx="32479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1603440"/>
                    <a:ext cx="32479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760920" y="383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07000" y="38419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76640" y="4959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60920" y="4959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453360" y="4011480"/>
          <a:ext cx="144360" cy="1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336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265560" y="487692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556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021200" y="4011480"/>
          <a:ext cx="144360" cy="1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120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688000" y="4876920"/>
          <a:ext cx="14436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8800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041640" y="251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134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25920" y="25225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07000" y="13460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21200" y="1577880"/>
          <a:ext cx="144360" cy="1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2120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265560" y="2478240"/>
          <a:ext cx="144360" cy="1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4782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53360" y="1577880"/>
          <a:ext cx="144360" cy="1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5336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688000" y="2475000"/>
          <a:ext cx="144360" cy="14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8000" y="2475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DMIOTY, KTÓRE MAJĄ KSZTAŁT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43" descr=""/>
          <p:cNvPicPr/>
          <p:nvPr/>
        </p:nvPicPr>
        <p:blipFill>
          <a:blip r:embed="rId1"/>
          <a:srcRect l="49793" t="0" r="0" b="0"/>
          <a:stretch/>
        </p:blipFill>
        <p:spPr>
          <a:xfrm>
            <a:off x="2232000" y="1673280"/>
            <a:ext cx="5446800" cy="2125440"/>
          </a:xfrm>
          <a:prstGeom prst="rect">
            <a:avLst/>
          </a:prstGeom>
          <a:ln w="0">
            <a:noFill/>
          </a:ln>
        </p:spPr>
      </p:pic>
      <p:pic>
        <p:nvPicPr>
          <p:cNvPr id="97" name="Obraz 143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76640" y="3968640"/>
            <a:ext cx="5400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NEK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81280" y="554364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o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budowany jest z prosto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ZCHOŁ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5815080"/>
            <a:ext cx="74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erzchołk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topadłościanu oznaczam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elkimi lite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581280" y="4006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2360" y="243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1640" y="40147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6640" y="24382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8164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736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164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62640" y="2394000"/>
          <a:ext cx="144360" cy="1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41920" y="149400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1920" y="14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86280" y="2394000"/>
          <a:ext cx="144360" cy="1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628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192720" y="4184640"/>
          <a:ext cx="14472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2720" y="418464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92720" y="1494000"/>
          <a:ext cx="144720" cy="1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2720" y="149400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86280" y="5049720"/>
          <a:ext cx="144360" cy="1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86280" y="504972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41920" y="4184640"/>
          <a:ext cx="144360" cy="1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1920" y="41846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72000" y="5049720"/>
          <a:ext cx="144720" cy="1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72000" y="5049720"/>
                    <a:ext cx="14472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DSTAWY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21000" y="1719360"/>
            <a:ext cx="3251160" cy="3700440"/>
            <a:chOff x="3321000" y="1719360"/>
            <a:chExt cx="3251160" cy="3700440"/>
          </a:xfrm>
        </p:grpSpPr>
        <p:graphicFrame>
          <p:nvGraphicFramePr>
            <p:cNvPr id="135" name=""/>
            <p:cNvGraphicFramePr/>
            <p:nvPr/>
          </p:nvGraphicFramePr>
          <p:xfrm>
            <a:off x="3366720" y="176364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6720" y="176364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697360" y="261936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9736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4076640" y="171936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6640" y="17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321000" y="261936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2100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6427440" y="441000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7440" y="441000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6427440" y="171936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27440" y="171936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3321000" y="527508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21000" y="527508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076640" y="441000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6640" y="441000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706720" y="527508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6720" y="527508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3" name=""/>
          <p:cNvGraphicFramePr/>
          <p:nvPr/>
        </p:nvGraphicFramePr>
        <p:xfrm>
          <a:off x="3363840" y="1773360"/>
          <a:ext cx="3187800" cy="363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63840" y="1773360"/>
                    <a:ext cx="3187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357720" y="1763640"/>
          <a:ext cx="3189240" cy="3635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7720" y="1763640"/>
                    <a:ext cx="318924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0320" y="0"/>
            <a:ext cx="79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BOCZNE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65560" y="1673280"/>
            <a:ext cx="3251160" cy="3700440"/>
            <a:chOff x="3265560" y="1673280"/>
            <a:chExt cx="3251160" cy="3700440"/>
          </a:xfrm>
        </p:grpSpPr>
        <p:graphicFrame>
          <p:nvGraphicFramePr>
            <p:cNvPr id="160" name=""/>
            <p:cNvGraphicFramePr/>
            <p:nvPr/>
          </p:nvGraphicFramePr>
          <p:xfrm>
            <a:off x="3311280" y="171756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1280" y="171756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5641920" y="257328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92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021200" y="167328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1200" y="16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3265560" y="257328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556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372000" y="436392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72000" y="436392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6372000" y="167328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000" y="167328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3265560" y="522900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65560" y="522900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4021200" y="436392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21200" y="436392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5651280" y="522900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51280" y="522900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3297240" y="1719360"/>
          <a:ext cx="3209760" cy="364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97240" y="1719360"/>
                    <a:ext cx="320976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11640" y="1763640"/>
          <a:ext cx="3159000" cy="360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1640" y="1763640"/>
                    <a:ext cx="3159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ODSTAWY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GÓRNEJ I DOLN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2000" y="4373640"/>
          <a:ext cx="797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2000" y="4373640"/>
                    <a:ext cx="79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732640" y="1719360"/>
          <a:ext cx="77940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2640" y="171936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35772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57720" y="5273640"/>
          <a:ext cx="2428560" cy="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7364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357720" y="2595600"/>
          <a:ext cx="2428560" cy="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259560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032360" y="1695600"/>
          <a:ext cx="2474640" cy="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2360" y="1695600"/>
                    <a:ext cx="247464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076640" y="4373640"/>
          <a:ext cx="2428920" cy="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76640" y="4373640"/>
                    <a:ext cx="242892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BO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076640" y="1719360"/>
          <a:ext cx="6840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664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200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1109880" y="1747440"/>
            <a:ext cx="3127320" cy="3574080"/>
            <a:chOff x="1109880" y="1747440"/>
            <a:chExt cx="3127320" cy="3574080"/>
          </a:xfrm>
        </p:grpSpPr>
        <p:sp>
          <p:nvSpPr>
            <p:cNvPr id="223" name=""/>
            <p:cNvSpPr/>
            <p:nvPr/>
          </p:nvSpPr>
          <p:spPr>
            <a:xfrm>
              <a:off x="110988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7200" y="174780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436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72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0988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0988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9272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9272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5436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4360" y="174780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0988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436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88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54360" y="174780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72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272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16000" y="1747800"/>
            <a:ext cx="3130560" cy="3578400"/>
            <a:chOff x="1116000" y="1747800"/>
            <a:chExt cx="3130560" cy="3578400"/>
          </a:xfrm>
        </p:grpSpPr>
        <p:sp>
          <p:nvSpPr>
            <p:cNvPr id="246" name=""/>
            <p:cNvSpPr/>
            <p:nvPr/>
          </p:nvSpPr>
          <p:spPr>
            <a:xfrm>
              <a:off x="1116000" y="2643480"/>
              <a:ext cx="0" cy="26827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6560" y="174780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1920" y="2643480"/>
              <a:ext cx="0" cy="178884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16000" y="1747800"/>
              <a:ext cx="74556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2080" y="1747800"/>
              <a:ext cx="74412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1920" y="2643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1920" y="174780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16000" y="2643480"/>
              <a:ext cx="7455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1920" y="1747800"/>
              <a:ext cx="0" cy="8956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2080" y="2643480"/>
              <a:ext cx="0" cy="1788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16000" y="4431960"/>
              <a:ext cx="74556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16000" y="5326200"/>
              <a:ext cx="2385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61920" y="443232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502080" y="4431960"/>
              <a:ext cx="74412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2080" y="4432320"/>
              <a:ext cx="7441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5392800" y="170172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1640" y="1719360"/>
          <a:ext cx="3184560" cy="363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164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5418000" y="1756800"/>
            <a:ext cx="3130560" cy="3578760"/>
            <a:chOff x="5418000" y="1756800"/>
            <a:chExt cx="3130560" cy="3578760"/>
          </a:xfrm>
        </p:grpSpPr>
        <p:sp>
          <p:nvSpPr>
            <p:cNvPr id="272" name=""/>
            <p:cNvSpPr/>
            <p:nvPr/>
          </p:nvSpPr>
          <p:spPr>
            <a:xfrm>
              <a:off x="5418000" y="2652480"/>
              <a:ext cx="0" cy="26830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560" y="175716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64280" y="2652480"/>
              <a:ext cx="0" cy="17892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8000" y="1756800"/>
              <a:ext cx="7462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804080" y="1756800"/>
              <a:ext cx="7444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4280" y="2652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4280" y="175716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8000" y="2652480"/>
              <a:ext cx="746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64280" y="1757160"/>
              <a:ext cx="0" cy="8953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4080" y="2652480"/>
              <a:ext cx="0" cy="17892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8000" y="4441320"/>
              <a:ext cx="7462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8000" y="5335560"/>
              <a:ext cx="23860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4280" y="444168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04080" y="444132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4080" y="444168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9:37Z</dcterms:modified>
  <cp:revision>17</cp:revision>
  <dc:subject/>
  <dc:title>Slajd 1</dc:title>
</cp:coreProperties>
</file>